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te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the Meaning of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ve and Courtship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nels of Love and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irth and 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ed Couples and Single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Transitions in Late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olescents and the Not-So-Empty 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ow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.S. - One Woman, Man,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ltures Polygamy and Poly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Group into which a Child i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am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and Lesb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ed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s a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ndwich Generation and Elder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t Fathers and Serial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-Sp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nd Grandchildren of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rk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use is Best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Spouse a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Marriage is Long-Ter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Marriage is Sa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Spouse Aims an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Spouse Grown 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Relationship to Suc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gh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ick to Express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to Promoting Mutual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nd Listen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lig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Crises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nger of Becoming a Re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, Single Mothers, Age at Marriage, Grandparents as Paren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Distorted Images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Establish Pattern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ultural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of Sick and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of Incest and Tab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and Emotional Ov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truggle over Hou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DA78-8F50-4408-93EE-13BC35021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D229-F2BE-46E5-8303-92FEC5048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BF94-E423-42B2-80EB-84BA48530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302D-FCDD-4032-B5A4-8953B4DB1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1359-7EC1-4AE1-AF3E-4171B5C0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368C0-5FD7-4190-B16E-32196AE7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8094D-FB02-4E33-98DC-B7DC6DBB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3EB03-A614-44D1-86B1-B8773491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645BA-1D9D-44C8-9A75-8BEBCC9C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CC8C1-AEAC-49A3-AFC4-2A4A2AC6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93FC8-44A8-4120-8850-C7F1711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7CD1-4B68-4DB8-8D9F-EC729F175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E442F-72B8-4F76-A925-7D4FE773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6C8E-0034-4B6F-89B5-55E7332E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6B97D-9D26-44F3-8F2A-F6718D2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BBF83-794D-4264-A9E8-A188A65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65D8-0D77-4B04-B257-18978E4A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02EB-4224-45E2-99FB-2C51E43AC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FB90-93BB-4C40-9EA5-5F2D05A57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1118-61A8-4C75-8923-B6D87D559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3EB1-A11B-464F-BE94-F0F5FDF7F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3349-70E1-4B4A-A006-C7745CB0E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AF62-20B2-4163-AB79-44F573CC9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6C04-E0CE-4621-AFD2-1B927B7F9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A7F-45A7-4490-A5B0-2B5D184A66E8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6: The Famil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16FE-C245-4B68-A91E-E833DA7E0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657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te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Famil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5" descr="C:\PowerPoint Work\Allyn &amp; Bacon\2005 Work\Henslin 8ed\Artwork\16-01.jpg"/>
          <p:cNvPicPr/>
          <p:nvPr/>
        </p:nvPicPr>
        <p:blipFill>
          <a:blip r:embed="rId1"/>
          <a:stretch/>
        </p:blipFill>
        <p:spPr>
          <a:xfrm>
            <a:off x="1447920" y="533520"/>
            <a:ext cx="57816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the Meaning of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Ro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139680"/>
            <a:ext cx="7696440" cy="19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ve and Courtship in Glob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36640" indent="-2797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hannels of Love and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1" name="Picture 3" descr="C:\PowerPoint Work\Allyn &amp; Bacon\2005 Work\Henslin 8ed\Artwork\16-02.jpg"/>
          <p:cNvPicPr/>
          <p:nvPr/>
        </p:nvPicPr>
        <p:blipFill>
          <a:blip r:embed="rId1"/>
          <a:stretch/>
        </p:blipFill>
        <p:spPr>
          <a:xfrm>
            <a:off x="2133720" y="457200"/>
            <a:ext cx="436068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birth and Child Rea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ed Couples and Single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nn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6" name="Picture 3" descr="C:\PowerPoint Work\Allyn &amp; Bacon\2005 Work\Henslin 8ed\Artwork\16-03.jpg"/>
          <p:cNvPicPr/>
          <p:nvPr/>
        </p:nvPicPr>
        <p:blipFill>
          <a:blip r:embed="rId1"/>
          <a:stretch/>
        </p:blipFill>
        <p:spPr>
          <a:xfrm>
            <a:off x="2209680" y="304920"/>
            <a:ext cx="45435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Transitions in Later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ultolescents and the Not-So-Empty N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idow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rican-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ino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ve 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3" descr="C:\PowerPoint Work\Allyn &amp; Bacon\2005 Work\Henslin 8ed\Artwork\16-04.jpg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 U.S. - One Woman, Man, an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Cultures Polygamy and Polyand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ved Group into which a Child is Born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882720"/>
            <a:ext cx="55627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Family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3" descr="C:\PowerPoint Work\Allyn &amp; Bacon\2005 Work\Henslin 8ed\Artwork\16-05.jpg"/>
          <p:cNvPicPr/>
          <p:nvPr/>
        </p:nvPicPr>
        <p:blipFill>
          <a:blip r:embed="rId1"/>
          <a:stretch/>
        </p:blipFill>
        <p:spPr>
          <a:xfrm>
            <a:off x="2971800" y="304920"/>
            <a:ext cx="31640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Without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C:\PowerPoint Work\Allyn &amp; Bacon\2005 Work\Henslin 8ed\Artwork\16-06.jpg"/>
          <p:cNvPicPr/>
          <p:nvPr/>
        </p:nvPicPr>
        <p:blipFill>
          <a:blip r:embed="rId1"/>
          <a:stretch/>
        </p:blipFill>
        <p:spPr>
          <a:xfrm>
            <a:off x="3124080" y="152280"/>
            <a:ext cx="2940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y and Lesb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amilies Without Childre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lended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1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3" name="Picture 3" descr="C:\PowerPoint Work\Allyn &amp; Bacon\2005 Work\Henslin 8ed\Artwork\16-07.jpg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24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9" name="Picture 3" descr="C:\PowerPoint Work\Allyn &amp; Bacon\2005 Work\Henslin 8ed\Artwork\16-08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49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3" descr="C:\PowerPoint Work\Allyn &amp; Bacon\2005 Work\Henslin 8ed\Artwork\16-09.jpg"/>
          <p:cNvPicPr/>
          <p:nvPr/>
        </p:nvPicPr>
        <p:blipFill>
          <a:blip r:embed="rId1"/>
          <a:stretch/>
        </p:blipFill>
        <p:spPr>
          <a:xfrm>
            <a:off x="3174840" y="152280"/>
            <a:ext cx="2692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6812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Define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7" name="Picture 3" descr="C:\PowerPoint Work\Allyn &amp; Bacon\2005 Work\Henslin 8ed\Artwork\16-10.jpg"/>
          <p:cNvPicPr/>
          <p:nvPr/>
        </p:nvPicPr>
        <p:blipFill>
          <a:blip r:embed="rId1"/>
          <a:stretch/>
        </p:blipFill>
        <p:spPr>
          <a:xfrm>
            <a:off x="2057400" y="380880"/>
            <a:ext cx="497196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andparents as Par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3808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andwich Generation and Elder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6" name="Picture 3" descr="C:\PowerPoint Work\Allyn &amp; Bacon\2005 Work\Henslin 8ed\Artwork\16-11.jpg"/>
          <p:cNvPicPr/>
          <p:nvPr/>
        </p:nvPicPr>
        <p:blipFill>
          <a:blip r:embed="rId1"/>
          <a:stretch/>
        </p:blipFill>
        <p:spPr>
          <a:xfrm>
            <a:off x="1066680" y="609480"/>
            <a:ext cx="6934320" cy="570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8" name="Picture 3" descr="C:\PowerPoint Work\Allyn &amp; Bacon\2005 Work\Henslin 8ed\Artwork\16-12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sent Fathers and Serial Fathe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-Spo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and Grandchildren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4" name="Picture 3" descr="C:\PowerPoint Work\Allyn &amp; Bacon\2005 Work\Henslin 8ed\Artwork\16-13.jpg"/>
          <p:cNvPicPr/>
          <p:nvPr/>
        </p:nvPicPr>
        <p:blipFill>
          <a:blip r:embed="rId1"/>
          <a:stretch/>
        </p:blipFill>
        <p:spPr>
          <a:xfrm>
            <a:off x="1066680" y="152280"/>
            <a:ext cx="27590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185" name="Picture 4" descr="C:\PowerPoint Work\Allyn &amp; Bacon\2005 Work\Henslin 8ed\Artwork\16-14.jpg"/>
          <p:cNvPicPr/>
          <p:nvPr/>
        </p:nvPicPr>
        <p:blipFill>
          <a:blip r:embed="rId2"/>
          <a:stretch/>
        </p:blipFill>
        <p:spPr>
          <a:xfrm>
            <a:off x="5105520" y="304920"/>
            <a:ext cx="27730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ark S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tt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 Abu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166760"/>
            <a:ext cx="7772400" cy="8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use is Best Frien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ike Spouse as Pers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nk Marriage is Long-Term Commi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Marriage is Sac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ee with Spouse Aims and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Spouse Grown More Interes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ant Relationship to Succe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ugh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5" dur="1" fill="hold"/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cle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ten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Orien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Pro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Can Be..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nd a Lot of Time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Quick to Express Appre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ted to Promoting Mutual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k and Listen a Lot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Religi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al with Crises Positive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ppy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9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Danger of Becoming a Relic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, Single Mothers, Age at Marriage, Grandparents as Parents will In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Distorted Images of Marriage and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304920"/>
            <a:ext cx="6782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uture of Marriage and Famil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Establish Patterns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sc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herit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uth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992160"/>
            <a:ext cx="7925040" cy="10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mmon Cultural Them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Sick and Ag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s of Incest and Tabo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ion and Emotional Overloa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28600"/>
            <a:ext cx="76964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Struggle over House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91960"/>
            <a:ext cx="7772400" cy="17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6:27Z</dcterms:modified>
  <cp:revision>174</cp:revision>
  <dc:subject>Chapter 16: The Family</dc:subject>
  <dc:title>Sociology: A Down-to-Earth Approach, 8/e</dc:title>
</cp:coreProperties>
</file>